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012-EDA0-40C7-BED2-F44D640C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779-84BB-4A69-AB21-6F39D7D1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2B8-F148-41C0-900C-14E78FFD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F01-805F-409D-BBD4-8DD7B710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A1C-0A5E-4BE3-8A1E-4407B625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BEF-B509-4F6D-BF47-42C1655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C1B-4932-42F8-AF02-C911394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FCF-89D3-4597-B989-527EF63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583-20FA-4C67-BFB0-37F3385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01C-A937-4FCB-85F1-BF98848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190-971E-4E31-9DFC-C31CDFE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081-BFDF-4A43-8617-133054B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5D4-E46B-4F65-B4D7-D1525487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afp.org/afp/20001101/2067_f1.jpg" TargetMode="External"/><Relationship Id="rId2" Type="http://schemas.openxmlformats.org/officeDocument/2006/relationships/hyperlink" Target="http://www.cwu.edu/~acquisto/fractures.htm" TargetMode="External"/><Relationship Id="rId3" Type="http://schemas.openxmlformats.org/officeDocument/2006/relationships/hyperlink" Target="http://www.ejbjs.org/cgi/content/abstract/38/5/1105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/Intro to C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 y.o. woman complains of limited movement/pain in left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on ice &amp; and had comminuted fracture of prox. L. hume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ent surgery 8 week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ed physical therapy, but it was too painful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abduct or laterally rotate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50208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ed during the injury and repair of the humer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lood supply to the humerus was damaged, the ossification of the fracture would be impeded, and callous formation would not be se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result in bone nec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source of this patient’s p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Academy of Family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afp.org/afp/20001101/2067_f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tomical Kinesiology Fractures and Healing – Central Washingto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wu.edu/~acquisto/fracture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al of Bone and Joint Surgery, I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erial Supply of the Adult Humer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jbjs.org/cgi/content/abstract/38/5/1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mminuted fra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rt:There are five main types of fractures."/>
          <p:cNvPicPr/>
          <p:nvPr/>
        </p:nvPicPr>
        <p:blipFill>
          <a:blip r:embed="rId1"/>
          <a:stretch/>
        </p:blipFill>
        <p:spPr>
          <a:xfrm>
            <a:off x="1676520" y="2438280"/>
            <a:ext cx="508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uscles and innervations are involv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oid (pos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oid (med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13372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5146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capular 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llary 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llary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capular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llary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1523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4120" y="15238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loss of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radial n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axillary n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suprascapular n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circumflex humeral artery damage causing bone necr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bone in head of humerus never hea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mage to radial, axillary, or suprascapular nerv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nerves course near the site of fra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19200"/>
          <a:stretch/>
        </p:blipFill>
        <p:spPr>
          <a:xfrm>
            <a:off x="5181480" y="380880"/>
            <a:ext cx="35625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posterior c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quadrangular space with posterior circumflex humeral ar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and posterior bran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surgical neck to deltoid and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teres minor and posterior deltoid and skin as the upper lateral cutaneous nerve of the arm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04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and relations of Axillary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head enters it via the upper end of the bicipital groove or via the adjacent parts of the greater and lesser tubero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amage to these vessels is avoided the viability of the humeral head may be preser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23:04Z</dcterms:created>
  <dc:creator>asitzma</dc:creator>
  <dc:description/>
  <dc:language>en-US</dc:language>
  <cp:lastModifiedBy>asitzma</cp:lastModifiedBy>
  <dcterms:modified xsi:type="dcterms:W3CDTF">2007-11-27T01:04:15Z</dcterms:modified>
  <cp:revision>11</cp:revision>
  <dc:subject/>
  <dc:title>Slide 1</dc:title>
</cp:coreProperties>
</file>